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538-A127-4221-8117-5C3BE8EB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75B-EDB8-43C6-8B61-BC23A758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E37-B5EA-471F-AE38-1BBD329F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52EF-5CBE-481B-95EB-505BFFAE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5B40-A5A3-46EE-8CFA-430DE2F21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A837-A5D0-465E-8676-C5CE50F7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55B4-7176-434B-A268-58A04844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9344-4E31-4778-9CF5-63D341FC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2F92-BEFD-4C48-86C8-491315CF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8F1B-996F-4F01-9975-D428A1E0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78A0-650E-4705-A19A-676716F5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5C0-A937-4DFC-B73B-1BF1805D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99AE-EC28-4433-8717-705F6327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4096-445F-4BB0-AE45-C553BCC4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000C-43D3-4EE9-A5A7-C7D03686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F092-AD20-423A-8CFF-35BC03AD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099C-DD41-4BAF-9E42-E6E4585F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6A8-1E08-4B74-9F99-7485496E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06F-C912-4725-9F44-3CF4D03C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687-5A51-4B7B-A777-A452B876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18A-C1A8-499A-B106-A0C02AEB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ADD-801C-4176-8C15-C7BDC868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FFA-E91E-4661-9FF4-8F521C11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3A5-709F-46E3-A3F2-56B5836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1962-3263-487A-8791-5713CFF556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ED41-C96E-4C1A-BD36-5ACE2AB9DB1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clase espanol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hley y latr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deport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 juego futb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 juego teni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no me justa basquetb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no me justa gol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me gusta volib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1800" y="2438280"/>
            <a:ext cx="2038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 gustria ser…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 gustria ser una abogd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 gustria ser una sectrtar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me gustria ser polic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me gustria ser una doctor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10160" y="2128680"/>
            <a:ext cx="37717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me gusta el color de ro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me gusta el color azu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no me gusta el color negr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no me gusta el color az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8180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32:59Z</dcterms:created>
  <dc:creator>WSFCS Workstation</dc:creator>
  <dc:description/>
  <dc:language>en-US</dc:language>
  <cp:lastModifiedBy>WSFCS Workstation</cp:lastModifiedBy>
  <dcterms:modified xsi:type="dcterms:W3CDTF">2010-04-27T18:58:32Z</dcterms:modified>
  <cp:revision>3</cp:revision>
  <dc:subject/>
  <dc:title>La clase espanol </dc:title>
</cp:coreProperties>
</file>